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B6E-53F9-4ABB-97B0-5FC0042E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19F0-2284-4758-921C-7A1D8326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623-D855-44A7-90C4-356513FC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6E2-CD05-4182-A2C9-6E3CB88E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58C-B941-488F-A736-E79B2B44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F8E-254F-4892-895D-D461B20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6CA-AD1D-461E-BF50-A146E4F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BC1A-34D3-4DE9-9EC8-12C6D710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FD3-F8A1-41C7-9E3F-3046D040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68E-648E-405E-8834-994CD81C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0E1-6421-459B-BC59-82D756F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FF7-6764-43A3-B93F-2938B00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E144-20BE-4C54-B2E8-5CD909E2C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60600" y="165240"/>
            <a:ext cx="37353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BIOLOGY RESEARCH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LUB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3" name="" descr="logo_300_RGB.jpg"/>
          <p:cNvPicPr/>
          <p:nvPr/>
        </p:nvPicPr>
        <p:blipFill>
          <a:blip r:embed="rId2"/>
          <a:stretch/>
        </p:blipFill>
        <p:spPr>
          <a:xfrm>
            <a:off x="4957920" y="6886440"/>
            <a:ext cx="1662120" cy="1478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umbnail of small NSF logo in color "/>
          <p:cNvPicPr/>
          <p:nvPr/>
        </p:nvPicPr>
        <p:blipFill>
          <a:blip r:embed="rId3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668680" y="4346640"/>
            <a:ext cx="41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Wednes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30 pm in Mr. Welch’s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-2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17560" y="6854760"/>
            <a:ext cx="32482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. Bill Welch, Mr. Scott 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Kate Brane: kebrane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200600">
            <a:off x="1119960" y="4238280"/>
            <a:ext cx="14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 Time an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163400">
            <a:off x="1171080" y="4359240"/>
            <a:ext cx="1722600" cy="99216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2480" y="1566720"/>
            <a:ext cx="574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8880" y="3138480"/>
            <a:ext cx="39117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8600" y="8439120"/>
            <a:ext cx="4987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5400000">
            <a:off x="-2498400" y="4027320"/>
            <a:ext cx="6026040" cy="45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Trebuchet MS"/>
              </a:rPr>
              <a:t>NORTH HIGH SCHOO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Trebuchet MS"/>
              <a:ea typeface="Trebuchet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152280" y="7445520"/>
            <a:ext cx="1503360" cy="1533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46200" y="5738760"/>
            <a:ext cx="243216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599904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Too busy to join right now? Stop by and let us know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Kate Brane</cp:lastModifiedBy>
  <dcterms:modified xsi:type="dcterms:W3CDTF">2007-09-10T14:24:36Z</dcterms:modified>
  <cp:revision>22</cp:revision>
  <dc:subject/>
  <dc:title>Slide 1</dc:title>
</cp:coreProperties>
</file>